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move the slide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util d’évaluation de l’alphabétisation fonctionne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ourquoi utiliser cet outil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uand l’utiliser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u’est-ce que c’est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upports locau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66899-5E29-48BB-8A7E-88EE6EE036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0082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C3B22-E4A3-4246-A943-748D8227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0082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440" y="40082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9FF5E-62BB-4417-9771-05EDDB80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8200" y="164592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9560" y="164592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0082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8200" y="40082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9560" y="40082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FA25B-4727-4C0A-B94E-B53EC2F012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AB0495-6888-461C-A89F-8961AFF853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6840" y="164592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FE1C4B-BF63-4560-863B-332EA781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DF9E21-283E-4123-A595-A23C27CC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CCD8B-1EB3-43F1-A47B-D0DCB23A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F94E1-0303-48D6-8144-765811C03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6840" y="-100080"/>
            <a:ext cx="822636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CB520-8D31-418A-96C1-D216FEEA6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40082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9C0430-8CAC-438E-AAE6-8E035E57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64592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2D4FD-BE05-4B7C-86ED-7B128A52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2440" y="40082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43E145-C31F-4D5C-AB22-3DD74A55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082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CEF48-398A-4C7C-A26E-46458D92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6840" y="40082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16D85-C269-4B76-9EDA-BDE8A75C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6840" y="40082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2440" y="40082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BCC876-B521-4F63-88C6-75988B08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8200" y="164592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9560" y="164592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840" y="40082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8200" y="40082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9560" y="40082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208C9-A338-4BC3-BC76-0525B8FD36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DDF7-A4CE-47F1-B1AF-42FE898EF8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164592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081F-DECB-4098-9963-0349E188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EF08-401F-4ED9-BE36-5AF8607B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5481E-BCC7-4069-8C51-29C46CCA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FB6C-86E3-419E-9DB2-52F539FDF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55A44-57AE-4515-94A5-A8A115E3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6840" y="-100080"/>
            <a:ext cx="822636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13B8-EEFD-49E4-9A02-72AB4DB4D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40082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63AB-1A59-40BA-8A1F-362F1A9E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2440" y="40082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032D-7016-4FFA-9382-600E3145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40082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AAC4-0C72-4FF6-A85F-FB4CCF2C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6840" y="40082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F0CD-4EF8-4919-8B07-2A63B931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40082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2440" y="40082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D296-50DE-4B3E-8445-EA264029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8200" y="164592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19560" y="164592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6840" y="40082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8200" y="40082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19560" y="40082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15BC-BA85-46B5-BE8B-93352EBE34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504B3-3121-40CC-88F4-604EED58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D9F30-BC33-4A10-BFE7-70AC5B06C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-100080"/>
            <a:ext cx="8226360" cy="69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5AD02-71A7-437C-B265-7C8FF535E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0082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35FCB-569E-4AED-94E6-58650C91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440" y="40082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97C59-BB96-4CE9-B7D5-16102F5F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440" y="164592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0082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DA17B-F8D6-4656-9557-18B22E2A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152280" y="133200"/>
            <a:ext cx="8829720" cy="6588360"/>
            <a:chOff x="152280" y="133200"/>
            <a:chExt cx="8829720" cy="6588360"/>
          </a:xfrm>
        </p:grpSpPr>
        <p:pic>
          <p:nvPicPr>
            <p:cNvPr id="1" name="Picture 2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29720" cy="658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Text Box 3"/>
            <p:cNvSpPr/>
            <p:nvPr/>
          </p:nvSpPr>
          <p:spPr>
            <a:xfrm>
              <a:off x="392040" y="374760"/>
              <a:ext cx="8353440" cy="610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Text Box 4"/>
          <p:cNvSpPr/>
          <p:nvPr/>
        </p:nvSpPr>
        <p:spPr>
          <a:xfrm>
            <a:off x="1295280" y="640080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5562720" y="6399360"/>
            <a:ext cx="29988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2"/>
          </p:nvPr>
        </p:nvSpPr>
        <p:spPr>
          <a:xfrm>
            <a:off x="8638920" y="6465960"/>
            <a:ext cx="4604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5C0B7D0-132E-460A-8440-88C583CF65C6}" type="slidenum"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456840" y="164592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"/>
          <p:cNvGrpSpPr/>
          <p:nvPr/>
        </p:nvGrpSpPr>
        <p:grpSpPr>
          <a:xfrm>
            <a:off x="152280" y="133200"/>
            <a:ext cx="8836200" cy="2527560"/>
            <a:chOff x="152280" y="133200"/>
            <a:chExt cx="8836200" cy="2527560"/>
          </a:xfrm>
        </p:grpSpPr>
        <p:pic>
          <p:nvPicPr>
            <p:cNvPr id="45" name="Picture 2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6200" cy="252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3"/>
            <p:cNvSpPr/>
            <p:nvPr/>
          </p:nvSpPr>
          <p:spPr>
            <a:xfrm>
              <a:off x="250920" y="233280"/>
              <a:ext cx="8638920" cy="23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6840" y="164592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5562720" y="6508440"/>
            <a:ext cx="2998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8638920" y="6477120"/>
            <a:ext cx="46044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600" spc="-1" strike="noStrike">
                <a:solidFill>
                  <a:srgbClr val="dfe0d4"/>
                </a:solidFill>
                <a:latin typeface="Rockwel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EA2ED15-6BD3-466A-AA9B-60F66A2BD80D}" type="slidenum">
              <a:rPr b="0" lang="en-US" sz="1600" spc="-1" strike="noStrike">
                <a:solidFill>
                  <a:srgbClr val="dfe0d4"/>
                </a:solidFill>
                <a:latin typeface="Rockwel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1600200" y="6508800"/>
            <a:ext cx="3906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1"/>
          <p:cNvGrpSpPr/>
          <p:nvPr/>
        </p:nvGrpSpPr>
        <p:grpSpPr>
          <a:xfrm>
            <a:off x="152280" y="133200"/>
            <a:ext cx="8829720" cy="6588360"/>
            <a:chOff x="152280" y="133200"/>
            <a:chExt cx="8829720" cy="6588360"/>
          </a:xfrm>
        </p:grpSpPr>
        <p:pic>
          <p:nvPicPr>
            <p:cNvPr id="89" name="Picture 2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29720" cy="658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3"/>
            <p:cNvSpPr/>
            <p:nvPr/>
          </p:nvSpPr>
          <p:spPr>
            <a:xfrm>
              <a:off x="392040" y="374760"/>
              <a:ext cx="8353440" cy="610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tangle 4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6840" y="164592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5"/>
          </p:nvPr>
        </p:nvSpPr>
        <p:spPr>
          <a:xfrm>
            <a:off x="5562720" y="6399000"/>
            <a:ext cx="2998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1295280" y="6400800"/>
            <a:ext cx="4211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6"/>
          </p:nvPr>
        </p:nvSpPr>
        <p:spPr>
          <a:xfrm>
            <a:off x="8638920" y="6481800"/>
            <a:ext cx="46044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600" spc="-1" strike="noStrike">
                <a:solidFill>
                  <a:srgbClr val="dfe0d4"/>
                </a:solidFill>
                <a:latin typeface="Rockwel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71C0D1E-3366-4F01-A981-DD6E9F20A0E2}" type="slidenum">
              <a:rPr b="0" lang="en-US" sz="1600" spc="-1" strike="noStrike">
                <a:solidFill>
                  <a:srgbClr val="dfe0d4"/>
                </a:solidFill>
                <a:latin typeface="Rockwel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"/>
          <p:cNvSpPr/>
          <p:nvPr/>
        </p:nvSpPr>
        <p:spPr>
          <a:xfrm>
            <a:off x="213372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24696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L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600" spc="-1" strike="noStrike">
                <a:solidFill>
                  <a:srgbClr val="e7eacb"/>
                </a:solidFill>
                <a:latin typeface="Rockwell"/>
              </a:rPr>
              <a:t>Outil d’évaluation de l’alphabétisation fonctionnelle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450720" y="249120"/>
            <a:ext cx="853776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Alphabétisation fonctionnel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Qualité de l'éducat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Simpl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Rap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600" spc="-1" strike="noStrike">
                <a:solidFill>
                  <a:srgbClr val="e7eacb"/>
                </a:solidFill>
                <a:latin typeface="Rockwell"/>
              </a:rPr>
              <a:t>Pourquoi utiliser cet outil ?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56840" y="1645920"/>
            <a:ext cx="8226360" cy="45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457200" y="16462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Etude préliminaire et évalu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Environnements d'apprentissage structuré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Avec un autre outi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636480" indent="-228600">
              <a:lnSpc>
                <a:spcPct val="100000"/>
              </a:lnSpc>
              <a:spcBef>
                <a:spcPts val="400"/>
              </a:spcBef>
              <a:buClr>
                <a:srgbClr val="b0ccb0"/>
              </a:buClr>
              <a:buFont typeface="Rockwell"/>
              <a:buChar char="•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  <a:ea typeface="Microsoft YaHei"/>
              </a:rPr>
              <a:t>Enquête auprès des gardiens d'enf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6480" indent="-228600">
              <a:lnSpc>
                <a:spcPct val="100000"/>
              </a:lnSpc>
              <a:spcBef>
                <a:spcPts val="400"/>
              </a:spcBef>
              <a:buClr>
                <a:srgbClr val="b0ccb0"/>
              </a:buClr>
              <a:buFont typeface="Rockwell"/>
              <a:buChar char="•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  <a:ea typeface="Microsoft YaHei"/>
              </a:rPr>
              <a:t>Enquête sur les comportements sains des jeu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Avec les enfants qui ont terminé le primai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600" spc="-1" strike="noStrike">
                <a:solidFill>
                  <a:srgbClr val="e7eacb"/>
                </a:solidFill>
                <a:latin typeface="Rockwell"/>
              </a:rPr>
              <a:t>Quand l’utiliser ?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457200" y="1646280"/>
            <a:ext cx="82296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Lett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Mot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Paragraph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Histoire et compréhensio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Texte local et compréhen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tabLst>
                <a:tab algn="l" pos="0"/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600" spc="-1" strike="noStrike">
                <a:solidFill>
                  <a:srgbClr val="e7eacb"/>
                </a:solidFill>
                <a:latin typeface="Rockwell"/>
              </a:rPr>
              <a:t>Qu’est-ce que c’est ?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719280" y="1224000"/>
            <a:ext cx="7705440" cy="44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871560" y="961920"/>
            <a:ext cx="7400880" cy="493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4"/>
          <p:cNvSpPr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oupure de jour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Prospectus d'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oupure de magaz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joutez 3 questions de compréhens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buClr>
                <a:srgbClr val="72a376"/>
              </a:buClr>
              <a:buFont typeface="Wingdings 2" charset="2"/>
              <a:buChar char=""/>
              <a:tabLst>
                <a:tab algn="l" pos="289080"/>
                <a:tab algn="l" pos="736560"/>
                <a:tab algn="l" pos="1185840"/>
                <a:tab algn="l" pos="1635120"/>
                <a:tab algn="l" pos="2084400"/>
                <a:tab algn="l" pos="2533680"/>
                <a:tab algn="l" pos="2982960"/>
                <a:tab algn="l" pos="3432240"/>
                <a:tab algn="l" pos="3881520"/>
                <a:tab algn="l" pos="4330800"/>
                <a:tab algn="l" pos="4780080"/>
                <a:tab algn="l" pos="5229360"/>
                <a:tab algn="l" pos="5678640"/>
                <a:tab algn="l" pos="6127920"/>
                <a:tab algn="l" pos="6576840"/>
                <a:tab algn="l" pos="7026120"/>
                <a:tab algn="l" pos="7475400"/>
                <a:tab algn="l" pos="7924680"/>
                <a:tab algn="l" pos="8373960"/>
                <a:tab algn="l" pos="8823240"/>
                <a:tab algn="l" pos="9272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On parle alors d'alphabétisation « fonctionnelle 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26360" cy="14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600" spc="-1" strike="noStrike">
                <a:solidFill>
                  <a:srgbClr val="e7eacb"/>
                </a:solidFill>
                <a:latin typeface="Rockwell"/>
              </a:rPr>
              <a:t>Supports locaux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08:09:10Z</dcterms:created>
  <dc:creator>Isabelle Carboni</dc:creator>
  <dc:description/>
  <dc:language>en-US</dc:language>
  <cp:lastModifiedBy>jbunnell</cp:lastModifiedBy>
  <dcterms:modified xsi:type="dcterms:W3CDTF">2013-08-01T08:40:46Z</dcterms:modified>
  <cp:revision>14</cp:revision>
  <dc:subject/>
  <dc:title>Functional Literacy Assessment Tool</dc:title>
</cp:coreProperties>
</file>