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2AB2F-1C60-4444-9E29-6118832958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B4AAB-4EDD-4DEC-8148-46857C3CE2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41CB0-4529-4489-98F8-82B0C6EB37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86039-6460-45A9-B49D-0F92B814F5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84168-2662-40E0-BFDC-0A84EEF64F6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24C7D-5B11-4040-A06E-E77F04C20E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C3955-122E-4E6D-8F26-DF324135BA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1BF310-8AB5-4253-BA0D-0C24AC83A1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40CB7-D1AF-4C4E-A857-65A4654AA90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7D7E0-4F49-4999-970B-AF82E245BA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AFC7D-913B-453E-B94D-8CBDC9B38D6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37FEC-374A-404D-A219-9BAF8E548D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33F3BF-C6E9-486C-8DCB-27F4580CE3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BE3C6-7173-45FF-B4BB-76BABD3E79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9BAD7-EA0C-4F9C-9858-5A114ED7A6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5531D-BC52-4295-906F-DDFB680A20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61783-AC40-43D8-8EA5-B990246EFD3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C10AF-6F69-4AE7-B5CD-9A098B1CC8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1702-FE5D-45F8-A5E2-5B8D2C0A8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0A481-AF74-43C2-BDEF-85FD5C6CD4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41F27-6ACF-4770-A108-1CC724B8C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78FF-9354-4940-91CB-7FAFF43AB3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3593D-6880-4A45-8890-65227A5A05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8E5AD-E591-4FDE-87DA-FA9EAE0F2C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D780D-54DF-40FF-921D-A90F7AC7F2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38728-450E-4C17-82D8-84DB5278E1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8AA9-0EA0-4705-B355-7A64BCFB39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76BE8-C286-4B5F-83DB-E662F2B8FE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41483-06AF-4F2B-B662-612766C2B9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2F10-D8DA-4A98-A7CE-EECA5646C0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0B680-68BD-4E97-9849-46D190DCBC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FD6A0-797F-419B-AB1F-F2FB7F12E77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50BF6-4B3D-4F84-87A5-91109733A9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8FD5C-5008-4EF9-83DF-ED8953058F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B08A4-3BAC-4D62-850D-084F069A44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86B20-F97B-40A3-B23A-AA2759C14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97A28-78C1-4F1C-B0A1-8BA97AEC8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FD1A-7D57-4830-8A6E-FBC38E4C5F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B3F59-5CA9-4980-B6D8-3B27888FBE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3FBC9-A23C-43B7-A28D-FB7388DB1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B59EF-7273-49A7-81A1-36BB64CBB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BB97-0787-41B1-B5B5-6CDF996C4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4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537C4-D8E4-4A18-A559-EB30C3FB7C4D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4640" cy="6843600"/>
            <a:chOff x="0" y="0"/>
            <a:chExt cx="9134640" cy="684360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86400" cy="3303360"/>
              <a:chOff x="2743200" y="3540240"/>
              <a:chExt cx="6386400" cy="330336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68760" cy="2646360"/>
              </a:xfrm>
              <a:custGeom>
                <a:avLst/>
                <a:gdLst>
                  <a:gd name="textAreaLeft" fmla="*/ 0 w 4568760"/>
                  <a:gd name="textAreaRight" fmla="*/ 4569120 w 4568760"/>
                  <a:gd name="textAreaTop" fmla="*/ 0 h 2646360"/>
                  <a:gd name="textAreaBottom" fmla="*/ 2646720 h 264636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2240" cy="1281240"/>
              </a:xfrm>
              <a:custGeom>
                <a:avLst/>
                <a:gdLst>
                  <a:gd name="textAreaLeft" fmla="*/ 0 w 1992240"/>
                  <a:gd name="textAreaRight" fmla="*/ 1992600 w 1992240"/>
                  <a:gd name="textAreaTop" fmla="*/ 0 h 1281240"/>
                  <a:gd name="textAreaBottom" fmla="*/ 1281240 h 128124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16560" cy="1531800"/>
              </a:xfrm>
              <a:custGeom>
                <a:avLst/>
                <a:gdLst>
                  <a:gd name="textAreaLeft" fmla="*/ 0 w 4516560"/>
                  <a:gd name="textAreaRight" fmla="*/ 4516920 w 4516560"/>
                  <a:gd name="textAreaTop" fmla="*/ 0 h 1531800"/>
                  <a:gd name="textAreaBottom" fmla="*/ 1532160 h 153180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67120" cy="3303360"/>
              </a:xfrm>
              <a:custGeom>
                <a:avLst/>
                <a:gdLst>
                  <a:gd name="textAreaLeft" fmla="*/ 0 w 4767120"/>
                  <a:gd name="textAreaRight" fmla="*/ 4767480 w 4767120"/>
                  <a:gd name="textAreaTop" fmla="*/ 0 h 3303360"/>
                  <a:gd name="textAreaBottom" fmla="*/ 3303720 h 330336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74960" cy="849600"/>
              </a:xfrm>
              <a:custGeom>
                <a:avLst/>
                <a:gdLst>
                  <a:gd name="textAreaLeft" fmla="*/ 0 w 1974960"/>
                  <a:gd name="textAreaRight" fmla="*/ 1974960 w 1974960"/>
                  <a:gd name="textAreaTop" fmla="*/ 0 h 849600"/>
                  <a:gd name="textAreaBottom" fmla="*/ 849960 h 84960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0800" cy="243396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433960"/>
                <a:gd name="textAreaBottom" fmla="*/ 2434320 h 243396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4640" cy="2813040"/>
            </a:xfrm>
            <a:custGeom>
              <a:avLst/>
              <a:gdLst>
                <a:gd name="textAreaLeft" fmla="*/ 0 w 9134640"/>
                <a:gd name="textAreaRight" fmla="*/ 9135000 w 9134640"/>
                <a:gd name="textAreaTop" fmla="*/ 0 h 2813040"/>
                <a:gd name="textAreaBottom" fmla="*/ 2813400 h 281304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4640" cy="6843600"/>
            <a:chOff x="0" y="0"/>
            <a:chExt cx="9134640" cy="684360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86400" cy="3303360"/>
              <a:chOff x="2743200" y="3540240"/>
              <a:chExt cx="6386400" cy="330336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3200" y="4197240"/>
                <a:ext cx="4568760" cy="2646360"/>
              </a:xfrm>
              <a:custGeom>
                <a:avLst/>
                <a:gdLst>
                  <a:gd name="textAreaLeft" fmla="*/ 0 w 4568760"/>
                  <a:gd name="textAreaRight" fmla="*/ 4569120 w 4568760"/>
                  <a:gd name="textAreaTop" fmla="*/ 0 h 2646360"/>
                  <a:gd name="textAreaBottom" fmla="*/ 2646720 h 264636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20040" y="4240080"/>
                <a:ext cx="1992240" cy="1281240"/>
              </a:xfrm>
              <a:custGeom>
                <a:avLst/>
                <a:gdLst>
                  <a:gd name="textAreaLeft" fmla="*/ 0 w 1992240"/>
                  <a:gd name="textAreaRight" fmla="*/ 1992600 w 1992240"/>
                  <a:gd name="textAreaTop" fmla="*/ 0 h 1281240"/>
                  <a:gd name="textAreaBottom" fmla="*/ 1281240 h 128124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3680" y="5311800"/>
                <a:ext cx="4516560" cy="1531800"/>
              </a:xfrm>
              <a:custGeom>
                <a:avLst/>
                <a:gdLst>
                  <a:gd name="textAreaLeft" fmla="*/ 0 w 4516560"/>
                  <a:gd name="textAreaRight" fmla="*/ 4516920 w 4516560"/>
                  <a:gd name="textAreaTop" fmla="*/ 0 h 1531800"/>
                  <a:gd name="textAreaBottom" fmla="*/ 1532160 h 153180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2480" y="3540240"/>
                <a:ext cx="4767120" cy="3303360"/>
              </a:xfrm>
              <a:custGeom>
                <a:avLst/>
                <a:gdLst>
                  <a:gd name="textAreaLeft" fmla="*/ 0 w 4767120"/>
                  <a:gd name="textAreaRight" fmla="*/ 4767480 w 4767120"/>
                  <a:gd name="textAreaTop" fmla="*/ 0 h 3303360"/>
                  <a:gd name="textAreaBottom" fmla="*/ 3303720 h 330336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5280" y="3678120"/>
                <a:ext cx="1974960" cy="849600"/>
              </a:xfrm>
              <a:custGeom>
                <a:avLst/>
                <a:gdLst>
                  <a:gd name="textAreaLeft" fmla="*/ 0 w 1974960"/>
                  <a:gd name="textAreaRight" fmla="*/ 1974960 w 1974960"/>
                  <a:gd name="textAreaTop" fmla="*/ 0 h 849600"/>
                  <a:gd name="textAreaBottom" fmla="*/ 849960 h 84960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3640" y="2128680"/>
              <a:ext cx="2890800" cy="243396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433960"/>
                <a:gd name="textAreaBottom" fmla="*/ 2434320 h 243396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4640" cy="2813040"/>
            </a:xfrm>
            <a:custGeom>
              <a:avLst/>
              <a:gdLst>
                <a:gd name="textAreaLeft" fmla="*/ 0 w 9134640"/>
                <a:gd name="textAreaRight" fmla="*/ 9135000 w 9134640"/>
                <a:gd name="textAreaTop" fmla="*/ 0 h 2813040"/>
                <a:gd name="textAreaBottom" fmla="*/ 2813400 h 281304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24080" y="6249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6552720" y="625284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3B631C9-51A5-438C-A7E2-CDF6E47F77C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Les enfants apprennent-ils 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Mesurer les résultats éducatif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-204840"/>
            <a:ext cx="82296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mment mesurons-nous aujourd'hui 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457200" y="1600200"/>
            <a:ext cx="8229600" cy="60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1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résence à l'éco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1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Inscriptions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1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Achèvement des étud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1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HYPOTHESE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: si les enfants vont à l'école, ils apprennent à lire, écrire et comp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roblème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6" name="Group 2"/>
          <p:cNvGrpSpPr/>
          <p:nvPr/>
        </p:nvGrpSpPr>
        <p:grpSpPr>
          <a:xfrm>
            <a:off x="6877080" y="1989000"/>
            <a:ext cx="754200" cy="1917720"/>
            <a:chOff x="6877080" y="1989000"/>
            <a:chExt cx="754200" cy="1917720"/>
          </a:xfrm>
        </p:grpSpPr>
        <p:pic>
          <p:nvPicPr>
            <p:cNvPr id="117" name="Picture 3" descr=""/>
            <p:cNvPicPr/>
            <p:nvPr/>
          </p:nvPicPr>
          <p:blipFill>
            <a:blip r:embed="rId1"/>
            <a:stretch/>
          </p:blipFill>
          <p:spPr>
            <a:xfrm>
              <a:off x="6877080" y="1989000"/>
              <a:ext cx="75420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4"/>
            <p:cNvSpPr/>
            <p:nvPr/>
          </p:nvSpPr>
          <p:spPr>
            <a:xfrm>
              <a:off x="6877080" y="1989000"/>
              <a:ext cx="75420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4"/>
          <a:stretch/>
        </p:blipFill>
        <p:spPr>
          <a:xfrm>
            <a:off x="478800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5"/>
          <a:stretch/>
        </p:blipFill>
        <p:spPr>
          <a:xfrm>
            <a:off x="5796000" y="2060640"/>
            <a:ext cx="76032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roblème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4" name="Group 2"/>
          <p:cNvGrpSpPr/>
          <p:nvPr/>
        </p:nvGrpSpPr>
        <p:grpSpPr>
          <a:xfrm>
            <a:off x="6372360" y="1989000"/>
            <a:ext cx="753840" cy="1917720"/>
            <a:chOff x="6372360" y="1989000"/>
            <a:chExt cx="753840" cy="1917720"/>
          </a:xfrm>
        </p:grpSpPr>
        <p:pic>
          <p:nvPicPr>
            <p:cNvPr id="125" name="Picture 3" descr=""/>
            <p:cNvPicPr/>
            <p:nvPr/>
          </p:nvPicPr>
          <p:blipFill>
            <a:blip r:embed="rId1"/>
            <a:stretch/>
          </p:blipFill>
          <p:spPr>
            <a:xfrm>
              <a:off x="6372360" y="1989000"/>
              <a:ext cx="75384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4"/>
            <p:cNvSpPr/>
            <p:nvPr/>
          </p:nvSpPr>
          <p:spPr>
            <a:xfrm>
              <a:off x="6372360" y="1989000"/>
              <a:ext cx="75384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4643280" y="2060640"/>
            <a:ext cx="760680" cy="192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5"/>
          <a:stretch/>
        </p:blipFill>
        <p:spPr>
          <a:xfrm>
            <a:off x="550872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6"/>
          <a:stretch/>
        </p:blipFill>
        <p:spPr>
          <a:xfrm>
            <a:off x="3276720" y="191628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7"/>
          <a:stretch/>
        </p:blipFill>
        <p:spPr>
          <a:xfrm>
            <a:off x="709308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8"/>
          <a:stretch/>
        </p:blipFill>
        <p:spPr>
          <a:xfrm>
            <a:off x="341964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9"/>
          <a:stretch/>
        </p:blipFill>
        <p:spPr>
          <a:xfrm>
            <a:off x="40672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10"/>
          <a:stretch/>
        </p:blipFill>
        <p:spPr>
          <a:xfrm>
            <a:off x="558000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11"/>
          <a:stretch/>
        </p:blipFill>
        <p:spPr>
          <a:xfrm>
            <a:off x="4859280" y="400536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12"/>
          <a:stretch/>
        </p:blipFill>
        <p:spPr>
          <a:xfrm>
            <a:off x="637236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"/>
          <p:cNvPicPr/>
          <p:nvPr/>
        </p:nvPicPr>
        <p:blipFill>
          <a:blip r:embed="rId13"/>
          <a:stretch/>
        </p:blipFill>
        <p:spPr>
          <a:xfrm>
            <a:off x="7885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"/>
          <p:cNvPicPr/>
          <p:nvPr/>
        </p:nvPicPr>
        <p:blipFill>
          <a:blip r:embed="rId14"/>
          <a:stretch/>
        </p:blipFill>
        <p:spPr>
          <a:xfrm>
            <a:off x="7093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"/>
          <p:cNvPicPr/>
          <p:nvPr/>
        </p:nvPicPr>
        <p:blipFill>
          <a:blip r:embed="rId15"/>
          <a:stretch/>
        </p:blipFill>
        <p:spPr>
          <a:xfrm>
            <a:off x="7885080" y="2133720"/>
            <a:ext cx="760320" cy="1923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9"/>
          <p:cNvSpPr/>
          <p:nvPr/>
        </p:nvSpPr>
        <p:spPr>
          <a:xfrm>
            <a:off x="179280" y="587700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ANS RESSOURCES D'APPRENTISSAGE SUPPLEMENTAIR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roblème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3" name="Group 2"/>
          <p:cNvGrpSpPr/>
          <p:nvPr/>
        </p:nvGrpSpPr>
        <p:grpSpPr>
          <a:xfrm>
            <a:off x="6372360" y="1989000"/>
            <a:ext cx="753840" cy="1917720"/>
            <a:chOff x="6372360" y="1989000"/>
            <a:chExt cx="753840" cy="1917720"/>
          </a:xfrm>
        </p:grpSpPr>
        <p:pic>
          <p:nvPicPr>
            <p:cNvPr id="144" name="Picture 3" descr=""/>
            <p:cNvPicPr/>
            <p:nvPr/>
          </p:nvPicPr>
          <p:blipFill>
            <a:blip r:embed="rId1"/>
            <a:stretch/>
          </p:blipFill>
          <p:spPr>
            <a:xfrm>
              <a:off x="6372360" y="1989000"/>
              <a:ext cx="75384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4"/>
            <p:cNvSpPr/>
            <p:nvPr/>
          </p:nvSpPr>
          <p:spPr>
            <a:xfrm>
              <a:off x="6372360" y="1989000"/>
              <a:ext cx="75384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/>
          <a:stretch/>
        </p:blipFill>
        <p:spPr>
          <a:xfrm>
            <a:off x="4643280" y="2060640"/>
            <a:ext cx="760680" cy="1923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5"/>
          <a:stretch/>
        </p:blipFill>
        <p:spPr>
          <a:xfrm>
            <a:off x="550872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6"/>
          <a:stretch/>
        </p:blipFill>
        <p:spPr>
          <a:xfrm>
            <a:off x="3276720" y="191628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7"/>
          <a:stretch/>
        </p:blipFill>
        <p:spPr>
          <a:xfrm>
            <a:off x="709308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8"/>
          <a:stretch/>
        </p:blipFill>
        <p:spPr>
          <a:xfrm>
            <a:off x="341964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9"/>
          <a:stretch/>
        </p:blipFill>
        <p:spPr>
          <a:xfrm>
            <a:off x="40672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"/>
          <p:cNvPicPr/>
          <p:nvPr/>
        </p:nvPicPr>
        <p:blipFill>
          <a:blip r:embed="rId10"/>
          <a:stretch/>
        </p:blipFill>
        <p:spPr>
          <a:xfrm>
            <a:off x="558000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11"/>
          <a:stretch/>
        </p:blipFill>
        <p:spPr>
          <a:xfrm>
            <a:off x="4859280" y="400536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2"/>
          <a:stretch/>
        </p:blipFill>
        <p:spPr>
          <a:xfrm>
            <a:off x="637236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3"/>
          <a:stretch/>
        </p:blipFill>
        <p:spPr>
          <a:xfrm>
            <a:off x="7885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4"/>
          <a:stretch/>
        </p:blipFill>
        <p:spPr>
          <a:xfrm>
            <a:off x="7093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5"/>
          <a:stretch/>
        </p:blipFill>
        <p:spPr>
          <a:xfrm>
            <a:off x="7885080" y="2133720"/>
            <a:ext cx="760320" cy="1923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9"/>
          <p:cNvSpPr/>
          <p:nvPr/>
        </p:nvSpPr>
        <p:spPr>
          <a:xfrm>
            <a:off x="539640" y="5877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RESULTATS EDUCATIFS EN BAIS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AutoShape 20"/>
          <p:cNvSpPr/>
          <p:nvPr/>
        </p:nvSpPr>
        <p:spPr>
          <a:xfrm>
            <a:off x="611280" y="4653000"/>
            <a:ext cx="1081080" cy="1152360"/>
          </a:xfrm>
          <a:prstGeom prst="downArrow">
            <a:avLst>
              <a:gd name="adj1" fmla="val 50000"/>
              <a:gd name="adj2" fmla="val 2664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Qu'est-ce qui doit changer 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3886200"/>
            <a:ext cx="640080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Mesurer en priorité le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RESULTATS DE L'APPRENTISSAG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ourquoi la lecture 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Compétence la plus élémentair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Indicateur le plus pertin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lecture comme indicateur indirect du niveau d'éduc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ourquoi la lecture à voix haute 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Confiance plus grand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Facile à évalu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Les performances des enfants à l'écrit sont souvent moins bonn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611280" y="3141720"/>
            <a:ext cx="7772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S QUESTIONS 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95280" y="1123920"/>
            <a:ext cx="77724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6:51:41Z</dcterms:created>
  <dc:creator>carbonii</dc:creator>
  <dc:description/>
  <dc:language>en-US</dc:language>
  <cp:lastModifiedBy>Nath</cp:lastModifiedBy>
  <dcterms:modified xsi:type="dcterms:W3CDTF">2013-03-31T23:58:07Z</dcterms:modified>
  <cp:revision>5</cp:revision>
  <dc:subject/>
  <dc:title>Are children learning?</dc:title>
</cp:coreProperties>
</file>