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il d’évaluation de l’alphabétisation fonctionn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quoi utiliser cet outil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and l’utilis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’est-ce que c’e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pports loc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060E-3936-4DBB-A3DE-E688528A1FB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969E4-17AC-417E-B910-48F57197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91FF2-418F-42DB-8BAC-401C0E6A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D850-6D87-4627-8080-BDA13FCAB0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0C792-164D-4C46-A864-C22D7F9AB2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C0CFB-F27F-4565-AF27-C46C25D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006A3-FE34-4E9E-A72B-18F06A60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DC44E-B518-4DE3-A7D2-ADACDEAF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0613A-2951-42B0-9E8C-86D7B91E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F57FA-554E-4CA7-B735-CA8BCBC11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56E679-97C9-4173-BEFE-769290AC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87A66-8575-417A-A777-FCE6FDF0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1767B2-51B6-489B-929D-1D3AE5B0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8878D-7056-4A24-8486-BD8AF211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AEE46-D522-497E-A0AB-5E9EFD5F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D3DB0-A781-4FF2-9775-733359E91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F5E319-6DFC-406E-B5E6-2590CD5676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B6C6-1E48-4D19-AEC8-DB28033563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4C4D-B73F-45B3-BD3C-E873F042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F6CFA-741D-45C7-9247-228803B4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942E-A81E-4B54-A76C-9D6EF1DFC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6FE1-2099-47C4-A8CC-C2731AE73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0F304-8888-4FD8-9C15-2E3B2314D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0BEF-D9A3-4F7E-819C-DFB389D1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5373-C198-448C-A2B7-A3C6201F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1245-C433-4792-88E7-DDB47696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8E54-6634-40BE-9455-CAAE78E3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1106-917A-4BA8-8DC0-28695AA9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5663-590F-4E05-8192-DEA867CC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9C9B-2B54-491B-93E7-144B3DAF12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FEA2-C950-4281-AB66-3A3A668D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464B8-0A0A-409A-9503-77BE5726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FB33-36AA-42CB-8072-7D125344B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E4F4-0E6B-4D3E-84F7-702D75F9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87702-70F8-4001-8EE3-2D8ACD25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D117-9129-4B66-A8BA-F24BEC5A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Text Box 4"/>
          <p:cNvSpPr/>
          <p:nvPr/>
        </p:nvSpPr>
        <p:spPr>
          <a:xfrm>
            <a:off x="1295280" y="64008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5562720" y="6399360"/>
            <a:ext cx="2998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638920" y="6465960"/>
            <a:ext cx="460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882AFD-F3F1-4D3F-B225-BD020899A4B6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152280" y="133200"/>
            <a:ext cx="8836200" cy="2527560"/>
            <a:chOff x="152280" y="133200"/>
            <a:chExt cx="8836200" cy="25275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620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38920" cy="23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5562720" y="650844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638920" y="647712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3FD289-0B50-42C3-A1A3-598191E5E162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00200" y="6508800"/>
            <a:ext cx="390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5562720" y="639900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95280" y="64008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638920" y="648180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47B48A-15B7-4537-B259-3EB6AD0C7FAA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3372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Outil d’évaluation de l’alphabétisation fonctionnell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0720" y="249120"/>
            <a:ext cx="8537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lphabétisation fonctionne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Qualité de l'édu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im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ap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Pourquoi utiliser cet outil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6840" y="164592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57200" y="16462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tude préliminaire et é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vironnements d'apprentissage structuré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un autre out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auprès des gardiens d'e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sur les comportements sains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les enfants qui ont terminé le prima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and l’utiliser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57200" y="164628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Lett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Mo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Paragrap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ire et compréhen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xte local et compréhen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’est-ce que c’est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19280" y="1224000"/>
            <a:ext cx="77054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871560" y="961920"/>
            <a:ext cx="74008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pectus d'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outez 3 questions de compréh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parle alors d'alphabétisation « fonctionnell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Supports locaux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09:10Z</dcterms:created>
  <dc:creator>Isabelle Carboni</dc:creator>
  <dc:description/>
  <dc:language>en-US</dc:language>
  <cp:lastModifiedBy>jbunnell</cp:lastModifiedBy>
  <dcterms:modified xsi:type="dcterms:W3CDTF">2013-08-01T08:40:46Z</dcterms:modified>
  <cp:revision>14</cp:revision>
  <dc:subject/>
  <dc:title>Functional Literacy Assessment Tool</dc:title>
</cp:coreProperties>
</file>