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F1481-5AD1-4B64-9C98-657D820A86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BD8C0-E97E-4D8F-9227-26971361B7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308F39-CFA9-43ED-A38C-C020B97E2C0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03C83-701C-411E-91F1-69CBB123D5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89B6E-5221-45D5-BCFF-EB401D1C591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06335-27FA-43B5-87A8-8260263FCE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56497-F0E6-4A2D-A2C8-C450A951668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24CD4-8088-4DE8-8CF8-1826683E5A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3F0938-7D9E-499A-BAF7-FCC56EA73C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F22D5-F61A-43E0-9083-BBB7D0993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2A66F-91A9-4787-A373-3E0AFD885B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BB632-2E28-4950-9A34-948CEBF9D8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E1C973-0170-48DF-B9D8-49DC375DC6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296B3-8DF9-4160-BDC8-F079BBFEFE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BB18B-A215-445B-AB19-1E69EAC84D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846E0-8717-42C1-A22A-9233C6C67D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B87A4-7DCB-44CE-A70B-44B8A13A468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C2C99-64CE-41A5-B0F2-7C78FF8688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3EBE7-EB96-4A7C-BABF-B58B05D9B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B331-CB8A-4B41-8791-2D18C8D0F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4F14-FCC0-4069-B7D5-E9B4A0794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214AD-A26C-4118-849F-D9C66461A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04C8-08D4-4181-B6D8-6B8008C1EA8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45C8-039B-4EC8-9A19-A6A2A3C0D03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A499-8E5A-4B1D-BDFF-2DD0BBEE6E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E4F88-A481-4A50-A6B3-8885A4E4868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D3019-DFCF-4E69-B25E-F967B09091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889C-5C03-4702-928E-7279271EF9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8C36-3586-456D-BEF0-9B3710F924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6848D-4E19-427B-A860-F02F94C4A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9E97D-C14F-4406-B577-27D3610360F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5855-D7E9-4FD6-8CB5-0260C315638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515C8-F3CF-4905-ADE3-0290E5A957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1F26-5863-45EF-8DA5-B39F8C67EA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FE1A-EB2B-4B84-BDE2-BB8B842D99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1AF7-50BE-4F56-9753-FBE58C8EF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DE8C-5EB6-4922-B667-45F138C8E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5B9AA-82C3-4B42-8913-3DAED843A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11034-4992-4FC9-B1DC-382D6EEB4C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7016-6F3A-450C-9ABE-1A8EA4DD9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9184-DFC7-4438-BE38-5F05FA2EE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6CE5-4390-4767-8472-C833660290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"/>
          <p:cNvSpPr/>
          <p:nvPr/>
        </p:nvSpPr>
        <p:spPr>
          <a:xfrm>
            <a:off x="457200" y="62499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901BE-B9D3-4AC3-B1D0-FDF9F9E493B7}" type="slidenum"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0" y="0"/>
            <a:ext cx="9134640" cy="6843600"/>
            <a:chOff x="0" y="0"/>
            <a:chExt cx="9134640" cy="6843600"/>
          </a:xfrm>
        </p:grpSpPr>
        <p:grpSp>
          <p:nvGrpSpPr>
            <p:cNvPr id="3" name="Group 4"/>
            <p:cNvGrpSpPr/>
            <p:nvPr/>
          </p:nvGrpSpPr>
          <p:grpSpPr>
            <a:xfrm>
              <a:off x="2743200" y="3540240"/>
              <a:ext cx="6386400" cy="3303360"/>
              <a:chOff x="2743200" y="3540240"/>
              <a:chExt cx="6386400" cy="3303360"/>
            </a:xfrm>
          </p:grpSpPr>
          <p:sp>
            <p:nvSpPr>
              <p:cNvPr id="4" name="Freeform 5"/>
              <p:cNvSpPr/>
              <p:nvPr/>
            </p:nvSpPr>
            <p:spPr>
              <a:xfrm>
                <a:off x="2743200" y="4197240"/>
                <a:ext cx="4568760" cy="2646360"/>
              </a:xfrm>
              <a:custGeom>
                <a:avLst/>
                <a:gdLst>
                  <a:gd name="textAreaLeft" fmla="*/ 0 w 4568760"/>
                  <a:gd name="textAreaRight" fmla="*/ 4569120 w 4568760"/>
                  <a:gd name="textAreaTop" fmla="*/ 0 h 2646360"/>
                  <a:gd name="textAreaBottom" fmla="*/ 2646720 h 26463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6620040" y="4240080"/>
                <a:ext cx="1992240" cy="128124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1281240"/>
                  <a:gd name="textAreaBottom" fmla="*/ 1281240 h 128124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4603680" y="5311800"/>
                <a:ext cx="4516560" cy="1531800"/>
              </a:xfrm>
              <a:custGeom>
                <a:avLst/>
                <a:gdLst>
                  <a:gd name="textAreaLeft" fmla="*/ 0 w 4516560"/>
                  <a:gd name="textAreaRight" fmla="*/ 4516920 w 4516560"/>
                  <a:gd name="textAreaTop" fmla="*/ 0 h 1531800"/>
                  <a:gd name="textAreaBottom" fmla="*/ 1532160 h 153180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4362480" y="3540240"/>
                <a:ext cx="4767120" cy="3303360"/>
              </a:xfrm>
              <a:custGeom>
                <a:avLst/>
                <a:gdLst>
                  <a:gd name="textAreaLeft" fmla="*/ 0 w 4767120"/>
                  <a:gd name="textAreaRight" fmla="*/ 4767480 w 4767120"/>
                  <a:gd name="textAreaTop" fmla="*/ 0 h 3303360"/>
                  <a:gd name="textAreaBottom" fmla="*/ 3303720 h 330336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7145280" y="3678120"/>
                <a:ext cx="1974960" cy="849600"/>
              </a:xfrm>
              <a:custGeom>
                <a:avLst/>
                <a:gdLst>
                  <a:gd name="textAreaLeft" fmla="*/ 0 w 1974960"/>
                  <a:gd name="textAreaRight" fmla="*/ 1974960 w 1974960"/>
                  <a:gd name="textAreaTop" fmla="*/ 0 h 849600"/>
                  <a:gd name="textAreaBottom" fmla="*/ 849960 h 84960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0"/>
            <p:cNvSpPr/>
            <p:nvPr/>
          </p:nvSpPr>
          <p:spPr>
            <a:xfrm>
              <a:off x="5273640" y="2128680"/>
              <a:ext cx="2890800" cy="243396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433960"/>
                <a:gd name="textAreaBottom" fmla="*/ 2434320 h 243396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0" y="0"/>
              <a:ext cx="9134640" cy="281304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2813040"/>
                <a:gd name="textAreaBottom" fmla="*/ 2813400 h 281304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0"/>
            <a:ext cx="9134640" cy="6843600"/>
            <a:chOff x="0" y="0"/>
            <a:chExt cx="9134640" cy="6843600"/>
          </a:xfrm>
        </p:grpSpPr>
        <p:grpSp>
          <p:nvGrpSpPr>
            <p:cNvPr id="51" name="Group 2"/>
            <p:cNvGrpSpPr/>
            <p:nvPr/>
          </p:nvGrpSpPr>
          <p:grpSpPr>
            <a:xfrm>
              <a:off x="2743200" y="3540240"/>
              <a:ext cx="6386400" cy="3303360"/>
              <a:chOff x="2743200" y="3540240"/>
              <a:chExt cx="6386400" cy="3303360"/>
            </a:xfrm>
          </p:grpSpPr>
          <p:sp>
            <p:nvSpPr>
              <p:cNvPr id="52" name="Freeform 3"/>
              <p:cNvSpPr/>
              <p:nvPr/>
            </p:nvSpPr>
            <p:spPr>
              <a:xfrm>
                <a:off x="2743200" y="4197240"/>
                <a:ext cx="4568760" cy="2646360"/>
              </a:xfrm>
              <a:custGeom>
                <a:avLst/>
                <a:gdLst>
                  <a:gd name="textAreaLeft" fmla="*/ 0 w 4568760"/>
                  <a:gd name="textAreaRight" fmla="*/ 4569120 w 4568760"/>
                  <a:gd name="textAreaTop" fmla="*/ 0 h 2646360"/>
                  <a:gd name="textAreaBottom" fmla="*/ 2646720 h 26463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4"/>
              <p:cNvSpPr/>
              <p:nvPr/>
            </p:nvSpPr>
            <p:spPr>
              <a:xfrm>
                <a:off x="6620040" y="4240080"/>
                <a:ext cx="1992240" cy="1281240"/>
              </a:xfrm>
              <a:custGeom>
                <a:avLst/>
                <a:gdLst>
                  <a:gd name="textAreaLeft" fmla="*/ 0 w 1992240"/>
                  <a:gd name="textAreaRight" fmla="*/ 1992600 w 1992240"/>
                  <a:gd name="textAreaTop" fmla="*/ 0 h 1281240"/>
                  <a:gd name="textAreaBottom" fmla="*/ 1281240 h 128124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5"/>
              <p:cNvSpPr/>
              <p:nvPr/>
            </p:nvSpPr>
            <p:spPr>
              <a:xfrm>
                <a:off x="4603680" y="5311800"/>
                <a:ext cx="4516560" cy="1531800"/>
              </a:xfrm>
              <a:custGeom>
                <a:avLst/>
                <a:gdLst>
                  <a:gd name="textAreaLeft" fmla="*/ 0 w 4516560"/>
                  <a:gd name="textAreaRight" fmla="*/ 4516920 w 4516560"/>
                  <a:gd name="textAreaTop" fmla="*/ 0 h 1531800"/>
                  <a:gd name="textAreaBottom" fmla="*/ 1532160 h 153180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6"/>
              <p:cNvSpPr/>
              <p:nvPr/>
            </p:nvSpPr>
            <p:spPr>
              <a:xfrm>
                <a:off x="4362480" y="3540240"/>
                <a:ext cx="4767120" cy="3303360"/>
              </a:xfrm>
              <a:custGeom>
                <a:avLst/>
                <a:gdLst>
                  <a:gd name="textAreaLeft" fmla="*/ 0 w 4767120"/>
                  <a:gd name="textAreaRight" fmla="*/ 4767480 w 4767120"/>
                  <a:gd name="textAreaTop" fmla="*/ 0 h 3303360"/>
                  <a:gd name="textAreaBottom" fmla="*/ 3303720 h 330336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7"/>
              <p:cNvSpPr/>
              <p:nvPr/>
            </p:nvSpPr>
            <p:spPr>
              <a:xfrm>
                <a:off x="7145280" y="3678120"/>
                <a:ext cx="1974960" cy="849600"/>
              </a:xfrm>
              <a:custGeom>
                <a:avLst/>
                <a:gdLst>
                  <a:gd name="textAreaLeft" fmla="*/ 0 w 1974960"/>
                  <a:gd name="textAreaRight" fmla="*/ 1974960 w 1974960"/>
                  <a:gd name="textAreaTop" fmla="*/ 0 h 849600"/>
                  <a:gd name="textAreaBottom" fmla="*/ 849960 h 84960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8"/>
            <p:cNvSpPr/>
            <p:nvPr/>
          </p:nvSpPr>
          <p:spPr>
            <a:xfrm>
              <a:off x="5273640" y="2128680"/>
              <a:ext cx="2890800" cy="2433960"/>
            </a:xfrm>
            <a:custGeom>
              <a:avLst/>
              <a:gdLst>
                <a:gd name="textAreaLeft" fmla="*/ 0 w 2890800"/>
                <a:gd name="textAreaRight" fmla="*/ 2891160 w 2890800"/>
                <a:gd name="textAreaTop" fmla="*/ 0 h 2433960"/>
                <a:gd name="textAreaBottom" fmla="*/ 2434320 h 243396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0"/>
              <a:ext cx="9134640" cy="2813040"/>
            </a:xfrm>
            <a:custGeom>
              <a:avLst/>
              <a:gdLst>
                <a:gd name="textAreaLeft" fmla="*/ 0 w 9134640"/>
                <a:gd name="textAreaRight" fmla="*/ 9135000 w 9134640"/>
                <a:gd name="textAreaTop" fmla="*/ 0 h 2813040"/>
                <a:gd name="textAreaBottom" fmla="*/ 2813400 h 281304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24080" y="6249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2"/>
          </p:nvPr>
        </p:nvSpPr>
        <p:spPr>
          <a:xfrm>
            <a:off x="6552720" y="625284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FDC2D8C-0C4E-4022-A463-E441341F7CB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Les enfants apprennent-ils 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Mesurer les résultats éducatif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-204840"/>
            <a:ext cx="82296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Comment mesurons-nous aujourd'hui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57200" y="1600200"/>
            <a:ext cx="8229600" cy="60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1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résence à l'école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1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Inscriptions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100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Achèvement des étud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100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HYPOTHESE 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: si les enfants vont à l'école, ils apprennent à lire, écrire et comp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799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roblèm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6" name="Group 2"/>
          <p:cNvGrpSpPr/>
          <p:nvPr/>
        </p:nvGrpSpPr>
        <p:grpSpPr>
          <a:xfrm>
            <a:off x="6877080" y="1989000"/>
            <a:ext cx="754200" cy="1917720"/>
            <a:chOff x="6877080" y="1989000"/>
            <a:chExt cx="754200" cy="1917720"/>
          </a:xfrm>
        </p:grpSpPr>
        <p:pic>
          <p:nvPicPr>
            <p:cNvPr id="117" name="Picture 3" descr=""/>
            <p:cNvPicPr/>
            <p:nvPr/>
          </p:nvPicPr>
          <p:blipFill>
            <a:blip r:embed="rId1"/>
            <a:stretch/>
          </p:blipFill>
          <p:spPr>
            <a:xfrm>
              <a:off x="6877080" y="1989000"/>
              <a:ext cx="75420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4"/>
            <p:cNvSpPr/>
            <p:nvPr/>
          </p:nvSpPr>
          <p:spPr>
            <a:xfrm>
              <a:off x="6877080" y="1989000"/>
              <a:ext cx="75420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4"/>
          <a:stretch/>
        </p:blipFill>
        <p:spPr>
          <a:xfrm>
            <a:off x="478800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5"/>
          <a:stretch/>
        </p:blipFill>
        <p:spPr>
          <a:xfrm>
            <a:off x="5796000" y="2060640"/>
            <a:ext cx="760320" cy="192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roblèm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4" name="Group 2"/>
          <p:cNvGrpSpPr/>
          <p:nvPr/>
        </p:nvGrpSpPr>
        <p:grpSpPr>
          <a:xfrm>
            <a:off x="6372360" y="1989000"/>
            <a:ext cx="753840" cy="1917720"/>
            <a:chOff x="6372360" y="1989000"/>
            <a:chExt cx="753840" cy="1917720"/>
          </a:xfrm>
        </p:grpSpPr>
        <p:pic>
          <p:nvPicPr>
            <p:cNvPr id="125" name="Picture 3" descr=""/>
            <p:cNvPicPr/>
            <p:nvPr/>
          </p:nvPicPr>
          <p:blipFill>
            <a:blip r:embed="rId1"/>
            <a:stretch/>
          </p:blipFill>
          <p:spPr>
            <a:xfrm>
              <a:off x="6372360" y="1989000"/>
              <a:ext cx="7538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4"/>
            <p:cNvSpPr/>
            <p:nvPr/>
          </p:nvSpPr>
          <p:spPr>
            <a:xfrm>
              <a:off x="6372360" y="1989000"/>
              <a:ext cx="7538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4643280" y="2060640"/>
            <a:ext cx="760680" cy="192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5"/>
          <a:stretch/>
        </p:blipFill>
        <p:spPr>
          <a:xfrm>
            <a:off x="550872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6"/>
          <a:stretch/>
        </p:blipFill>
        <p:spPr>
          <a:xfrm>
            <a:off x="3276720" y="191628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"/>
          <p:cNvPicPr/>
          <p:nvPr/>
        </p:nvPicPr>
        <p:blipFill>
          <a:blip r:embed="rId7"/>
          <a:stretch/>
        </p:blipFill>
        <p:spPr>
          <a:xfrm>
            <a:off x="709308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"/>
          <p:cNvPicPr/>
          <p:nvPr/>
        </p:nvPicPr>
        <p:blipFill>
          <a:blip r:embed="rId8"/>
          <a:stretch/>
        </p:blipFill>
        <p:spPr>
          <a:xfrm>
            <a:off x="341964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"/>
          <p:cNvPicPr/>
          <p:nvPr/>
        </p:nvPicPr>
        <p:blipFill>
          <a:blip r:embed="rId9"/>
          <a:stretch/>
        </p:blipFill>
        <p:spPr>
          <a:xfrm>
            <a:off x="40672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"/>
          <p:cNvPicPr/>
          <p:nvPr/>
        </p:nvPicPr>
        <p:blipFill>
          <a:blip r:embed="rId10"/>
          <a:stretch/>
        </p:blipFill>
        <p:spPr>
          <a:xfrm>
            <a:off x="558000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"/>
          <p:cNvPicPr/>
          <p:nvPr/>
        </p:nvPicPr>
        <p:blipFill>
          <a:blip r:embed="rId11"/>
          <a:stretch/>
        </p:blipFill>
        <p:spPr>
          <a:xfrm>
            <a:off x="4859280" y="400536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5" descr=""/>
          <p:cNvPicPr/>
          <p:nvPr/>
        </p:nvPicPr>
        <p:blipFill>
          <a:blip r:embed="rId12"/>
          <a:stretch/>
        </p:blipFill>
        <p:spPr>
          <a:xfrm>
            <a:off x="637236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6" descr=""/>
          <p:cNvPicPr/>
          <p:nvPr/>
        </p:nvPicPr>
        <p:blipFill>
          <a:blip r:embed="rId13"/>
          <a:stretch/>
        </p:blipFill>
        <p:spPr>
          <a:xfrm>
            <a:off x="7885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7" descr=""/>
          <p:cNvPicPr/>
          <p:nvPr/>
        </p:nvPicPr>
        <p:blipFill>
          <a:blip r:embed="rId14"/>
          <a:stretch/>
        </p:blipFill>
        <p:spPr>
          <a:xfrm>
            <a:off x="7093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8" descr=""/>
          <p:cNvPicPr/>
          <p:nvPr/>
        </p:nvPicPr>
        <p:blipFill>
          <a:blip r:embed="rId15"/>
          <a:stretch/>
        </p:blipFill>
        <p:spPr>
          <a:xfrm>
            <a:off x="7885080" y="2133720"/>
            <a:ext cx="760320" cy="1923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9"/>
          <p:cNvSpPr/>
          <p:nvPr/>
        </p:nvSpPr>
        <p:spPr>
          <a:xfrm>
            <a:off x="179280" y="587700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SANS RESSOURCES D'APPRENTISSAGE SUPPLEMENTAIRE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roblèmes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3" name="Group 2"/>
          <p:cNvGrpSpPr/>
          <p:nvPr/>
        </p:nvGrpSpPr>
        <p:grpSpPr>
          <a:xfrm>
            <a:off x="6372360" y="1989000"/>
            <a:ext cx="753840" cy="1917720"/>
            <a:chOff x="6372360" y="1989000"/>
            <a:chExt cx="753840" cy="1917720"/>
          </a:xfrm>
        </p:grpSpPr>
        <p:pic>
          <p:nvPicPr>
            <p:cNvPr id="144" name="Picture 3" descr=""/>
            <p:cNvPicPr/>
            <p:nvPr/>
          </p:nvPicPr>
          <p:blipFill>
            <a:blip r:embed="rId1"/>
            <a:stretch/>
          </p:blipFill>
          <p:spPr>
            <a:xfrm>
              <a:off x="6372360" y="1989000"/>
              <a:ext cx="753840" cy="19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4"/>
            <p:cNvSpPr/>
            <p:nvPr/>
          </p:nvSpPr>
          <p:spPr>
            <a:xfrm>
              <a:off x="6372360" y="1989000"/>
              <a:ext cx="753840" cy="19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1187280" y="1989000"/>
            <a:ext cx="1820880" cy="1633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3924360" y="198900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4643280" y="2060640"/>
            <a:ext cx="760680" cy="1923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tretch/>
        </p:blipFill>
        <p:spPr>
          <a:xfrm>
            <a:off x="550872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6"/>
          <a:stretch/>
        </p:blipFill>
        <p:spPr>
          <a:xfrm>
            <a:off x="3276720" y="191628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7"/>
          <a:stretch/>
        </p:blipFill>
        <p:spPr>
          <a:xfrm>
            <a:off x="7093080" y="206064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8"/>
          <a:stretch/>
        </p:blipFill>
        <p:spPr>
          <a:xfrm>
            <a:off x="341964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9"/>
          <a:stretch/>
        </p:blipFill>
        <p:spPr>
          <a:xfrm>
            <a:off x="40672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/>
          <p:cNvPicPr/>
          <p:nvPr/>
        </p:nvPicPr>
        <p:blipFill>
          <a:blip r:embed="rId10"/>
          <a:stretch/>
        </p:blipFill>
        <p:spPr>
          <a:xfrm>
            <a:off x="558000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11"/>
          <a:stretch/>
        </p:blipFill>
        <p:spPr>
          <a:xfrm>
            <a:off x="4859280" y="4005360"/>
            <a:ext cx="760320" cy="1923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2"/>
          <a:stretch/>
        </p:blipFill>
        <p:spPr>
          <a:xfrm>
            <a:off x="6372360" y="386064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3"/>
          <a:stretch/>
        </p:blipFill>
        <p:spPr>
          <a:xfrm>
            <a:off x="7885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4"/>
          <a:stretch/>
        </p:blipFill>
        <p:spPr>
          <a:xfrm>
            <a:off x="7093080" y="3933720"/>
            <a:ext cx="760320" cy="1924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5"/>
          <a:stretch/>
        </p:blipFill>
        <p:spPr>
          <a:xfrm>
            <a:off x="7885080" y="2133720"/>
            <a:ext cx="760320" cy="1923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9"/>
          <p:cNvSpPr/>
          <p:nvPr/>
        </p:nvSpPr>
        <p:spPr>
          <a:xfrm>
            <a:off x="539640" y="58770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Garamond"/>
              </a:rPr>
              <a:t>RESULTATS EDUCATIFS EN BAIS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AutoShape 20"/>
          <p:cNvSpPr/>
          <p:nvPr/>
        </p:nvSpPr>
        <p:spPr>
          <a:xfrm>
            <a:off x="611280" y="4653000"/>
            <a:ext cx="1081080" cy="1152360"/>
          </a:xfrm>
          <a:prstGeom prst="downArrow">
            <a:avLst>
              <a:gd name="adj1" fmla="val 50000"/>
              <a:gd name="adj2" fmla="val 26648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Qu'est-ce qui doit changer 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1371600" y="3886200"/>
            <a:ext cx="640080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Mesurer en priorité les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RESULTATS DE L'APPRENTISSAG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urquoi la lecture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Compétence la plus élémentair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Indicateur le plus pertin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lecture comme indicateur indirect du niveau d'éducation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Pourquoi la lecture à voix haute 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Confiance plus grand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Facile à évaluer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6600" indent="-336600">
              <a:spcBef>
                <a:spcPts val="9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Garamond"/>
              </a:rPr>
              <a:t>Les performances des enfants à l'écrit sont souvent moins bonne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611280" y="3141720"/>
            <a:ext cx="77724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DES QUESTIONS 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95280" y="1123920"/>
            <a:ext cx="777240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6:51:41Z</dcterms:created>
  <dc:creator>carbonii</dc:creator>
  <dc:description/>
  <dc:language>en-US</dc:language>
  <cp:lastModifiedBy>Nath</cp:lastModifiedBy>
  <dcterms:modified xsi:type="dcterms:W3CDTF">2013-03-31T23:58:07Z</dcterms:modified>
  <cp:revision>5</cp:revision>
  <dc:subject/>
  <dc:title>Are children learning?</dc:title>
</cp:coreProperties>
</file>